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26C3-0498-4F0A-B174-7A0AB6454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C186-8CDA-4E34-8992-6AFC6A35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0946-81BB-4C2D-8D49-85AC964E0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302C-5CB5-418F-9598-6EFE5A9E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85EE-2AE1-4BBB-9E63-7731B1AA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A162-9615-49AC-8B68-64EE294D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490C-B090-4421-AB03-D4D7CB22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2398-1CAD-4339-B790-71E42334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3DB4-6937-4489-ADD3-91E14C65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343F-4103-48DE-9785-0AF78F4E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B746-6286-435E-8034-4D8FDBE0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8090-2FB6-4215-A9E2-181A17AB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75D7F-BF42-4DCB-9CD5-34190EC467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1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1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2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2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3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3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4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4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5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5%20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6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6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79640" y="179280"/>
            <a:ext cx="611964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2T10:01:07Z</dcterms:created>
  <dc:creator/>
  <dc:description/>
  <dc:language>en-US</dc:language>
  <cp:lastModifiedBy/>
  <dcterms:modified xsi:type="dcterms:W3CDTF">2014-03-22T10:34:14Z</dcterms:modified>
  <cp:revision>14</cp:revision>
  <dc:subject/>
  <dc:title/>
</cp:coreProperties>
</file>